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10B9-51ED-48C5-928D-31912E7C4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74B2-C9BC-4528-9888-36D21BDD4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F3D3-3178-4377-B11E-AE2D52929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4520-A9D1-48D2-9D96-D52D824FA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A685-8D51-4C83-9A56-F129DA0CD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F782-0B19-48D0-AF34-E21458C47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5AB6-EA82-48C6-9451-04C9F4361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26B4-AAE2-4488-9388-285685414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038F-216F-4A2E-BA53-CE8555A73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D456-4B84-4782-A96B-D8DA9F355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C464-9BA8-4EAF-BA10-D0FC9FD89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1451-D813-429C-8196-1B3AA021B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8F25-2DA9-46AC-B9AF-DE2ADEDE0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5261-FA65-41D3-83B8-FB3E59783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24FD-E157-4AFE-857C-D188EAC9C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2B99-54FB-46D6-A73B-721B58D4C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A8B4-E916-414A-97FB-BDC046D49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4E58-A27C-4CA2-9D9C-B82A53A33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EE08-DE56-406B-9E21-561413058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EEF9-33C9-4AEB-BFCC-1D4F4D180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195C-9AFF-48E1-A110-649C63B5E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2D56-7C33-41D0-8558-4575CAECB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CEAC-02F5-4841-8296-E5923A7CF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75BC-7842-4629-8730-95DCC2E9A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D996-2A81-4D4D-BE91-695C4FF10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841-C318-4685-816E-52956C50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150-5FEC-4A21-A5E7-43328EDE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FE1-77C4-4F51-BFA3-52B1E109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B61-077D-42C4-99E0-8DD3CFB1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4470-6ABB-4223-A14C-EC8A3F8D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028E-2989-44AE-80E1-CC944DE6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726D-8D2F-4481-AC6E-1E86369B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3879-265B-4C6E-8085-7C166C82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1DC5-0875-4129-8D7A-16AA2BB6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3EAC-6628-40AA-8B60-0A8D49A8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7B0C-A0D4-4320-A311-86383C61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700-903A-4242-87DE-52D8805C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C96A-680E-4D2E-AC2B-329CEAF9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EC67-A971-4515-B173-A8AD2F93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AA4F-D6FB-462A-BFF6-39017ED8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92A5-3282-410D-906D-B037F96C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7DC6-52FB-4F80-9DDD-9D4B3C3E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1104F-2042-4EFF-8B10-535F1B80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3DEF4-E51E-4F2B-B9AD-D5BC1C64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49F95-697F-40A1-B22C-4F1BCF4D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93ACE-0711-4DD7-B55B-FBE734C5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C4A1C-C228-4DC1-AA7F-60B3C04A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9F6-959F-4C22-83B1-2F805D6C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0BC88-1300-4940-8AF4-6EF1E932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387FB-3A55-4F7E-A1B7-D9542D8D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D91F-4424-4E39-870F-188E424A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BEF25-7722-48C2-9C97-CEB8B378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A7686-8A0F-401E-B494-661690E3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32F5-9D8F-4DC5-8A2E-4E32B345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5606A-7388-4CE3-A781-206AE00D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9EDF-724A-4A60-B30F-5320CA71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EAF-6703-42D0-8D36-2806DF99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FA8-5BFE-4189-8C87-544F5C49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468-45D0-49B2-BF85-7735A14F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8AE-D58A-40FB-9320-CBD4E6CF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A88-8C1F-446B-9709-777AF1CD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E923-3EF5-4202-93EE-EE54368CAB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548B-16C0-460D-A1C6-6687B7987D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DBB6-3444-4348-B29C-95DE5C463A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pters 1 -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c Issues in Environmental Sc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Systems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6993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boseli National Park (case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What happened and whose fault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48320" y="3963600"/>
            <a:ext cx="4194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os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1680" y="151920"/>
            <a:ext cx="8540640" cy="59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stem respons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egative 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ost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n increase in s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will lead to an eventu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that output - stabiliz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1680" y="30456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sitive 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output increa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s to more output increa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roblem intensif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Climate Chang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ich feedback system will domina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6419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+ Positive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- Nega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 Changes and Equilib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eple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larger than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-4752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1680" y="228600"/>
            <a:ext cx="85406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row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smaller than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s on harvest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eady St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=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tainable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ural and Human Impacts on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natural disturbances tend to be in balance and life has often co-evolved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importa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lays in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s to change not always immedi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non-linear, effects not seen for a wh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seen, may be difficult to cor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uman activity is beginning to affect environment globall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 growth = underlying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ustainable prac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idence Ti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8423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Pollu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ck flow through (short A.R.T.) affects system quickly but recovers quickly if problem remed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1320" y="457200"/>
            <a:ext cx="731844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 flow through (long A.R.T.) takes a longer time to show effects but longer to recover even after problem remed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7756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thing affects everything els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s in one part of system has multiple effects in that system and other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formitari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s happening in the present were also happening in the p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gnitude and frequency of events may vary over time, but the processes are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th and all  living things are part of a singl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greatly affects the system and regulates the planetary environment to help sustain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Environm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1680" y="1219320"/>
            <a:ext cx="8540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tilitar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cological jus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esthe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cautionary Prici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re is a global threat of serious or maybe irreversible environmental damag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hould not wait till all the scientific evidence is in before taking steps to prevent the potential problem from occ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Coral Reef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reatens Th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Knowledge is Critic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ed Experi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 vari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a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science i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785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4:29:50Z</dcterms:created>
  <dc:creator>tosborne</dc:creator>
  <dc:description/>
  <dc:language>en-US</dc:language>
  <cp:lastModifiedBy>tosborne</cp:lastModifiedBy>
  <dcterms:modified xsi:type="dcterms:W3CDTF">2010-09-10T21:58:50Z</dcterms:modified>
  <cp:revision>22</cp:revision>
  <dc:subject/>
  <dc:title>Basic Issues in Environmental Science</dc:title>
</cp:coreProperties>
</file>